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710B-5521-439F-9796-27F18AC8C0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A807-A692-44A0-AF9F-F77DC79F487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37A7-E8D6-4492-A7F2-69E80284C6C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A8F-5CA8-4B8B-887F-A7DE4C76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C66-ABA8-4099-9E34-D6EB6A79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DB44E-5A4A-49F5-9141-2F88FFF3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832C2-A0D2-4355-B072-0D800E04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7995C-34D3-465C-9FBA-DA45A1B2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C3DD3-82A0-491D-A9BC-2CE7D2BD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C5BC3-6612-4DB4-B0EA-36DCC119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84512-8B75-44A4-A838-23D84BD2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855C0-0DDC-47AE-857A-2BEF842F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6B4B6-B4BE-46D8-94B2-BB96DD77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77BF0-A9E8-4C24-8D63-30C1D92D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512CB-2E12-4287-83CB-C6E20077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555-80CE-44BC-BBAB-E441C528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0CB63-7CDF-4160-A053-F19F8B50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35E8D-B739-4AB2-8203-0F6BC0D2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714F1-22AC-4900-9807-6C9BC9DA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F86CD-20B8-4331-95D1-64DA774B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92E14-E666-4C98-9BE9-28AEB932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67275-44D9-4BF7-A5DE-253D6FA3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570AA-B68B-4A88-9A8C-6565738A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618BA-4020-44D1-94B6-F2ABF9B7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B52BF-A3E2-4CEF-89BB-4DD8F4D2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FB0DE-BD37-4ADC-A3B4-669C2F14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434-C19E-44DA-B889-331CC92A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A4DA3-6DF0-4171-A011-E8B5270F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3D4FE-4A91-4782-8A4B-C1DDFF1B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4DD47-0333-4623-AE2B-CB83C250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D7A8A-EBBD-450D-82BA-D9524586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C80D5-0CFB-48BD-A119-7D9D3EC4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5A0FA-21A9-45B0-B827-EFB97780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D2540-FC03-4D4D-BA69-F7AB974B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B0E7B-0A94-403A-9C43-D2283183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A3195-64DB-4C8E-9ACC-C521C404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0880D-2B60-44B4-9819-E0984DFB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EB88-DA90-4432-8AE6-3C4B79D1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A4081-1350-42B5-8620-B7D4B20B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88C24-AB3A-499D-A462-8F769F1D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C6C51-72E8-475F-A8DC-DF6641FE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F705E-670A-4C31-AE31-37D6C416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325EA-3C14-49DE-9CEE-072CF1FC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1F34E-53A0-47D4-82F5-C91418E4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5DBF9-66CF-42CA-BDF2-9C483F69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7147A-4C27-4AC1-97A8-1EBE09F0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63BAE-88FC-4469-96AE-60B451CC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BEB13-B224-4AD2-950E-370A030D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C58F-800B-4089-BE41-C0903E10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CDC26-76BC-421D-9CE3-4B6BD14D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A6E6E-38F1-4033-B233-3A3EF0A4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B154E-99BD-4B26-8AA2-8D30E97B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DA9C0-A2B8-4BB0-AC52-FF1EDD7D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1C56C-2B17-4A74-9C79-FE1FC054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5E25B-50B4-42E7-8074-3E5B7A82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09384-F4E7-4D22-9469-4A5C32B9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9BF71-652E-4C44-A1CF-FDA9D546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CE989-3A9D-497A-B986-F99FCD7B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C3593-E8BA-4FF3-88CB-6F64F691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91AF-8026-4446-83C3-B76D966F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8E5C4-463A-41A2-8B8B-B138DED0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CC31A-C84C-4A2C-9902-BA682C26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B3CA6-7A50-4DBB-9E7E-FDCBCC63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88B7E-2BB9-49DB-B7B0-D341FF4B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12B99-1A49-4BAC-9D04-6271035A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5DB83-9372-4781-98D2-DDA61949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91F8F-F5B1-4A5A-A6F1-F21BC1EA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D5101-8A02-49A2-AAB1-475C3514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D9A66-8B85-4297-9AF0-BE126823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1A793-A94F-44AE-8670-DC1B9363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E945-66D7-4369-B469-FA5BB439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15449-4C05-4CC4-B063-EF09B0B7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91A22-2B3A-4121-B744-2678E712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DDAE7-7780-4DAD-8F44-9B98AE91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0D2D5-FF1D-4E4A-9AFD-4FBAF9CA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7B36A-1FC7-42E3-B9DC-794D68A5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469F0-551F-4D44-86D3-B70D7408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14AAF-34B7-4D3C-936B-D5DD67E2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97F72A-D1B9-4915-8DDC-F1024498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64F7B-7A42-41F2-A78E-1462A003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28C2-EA35-408E-861B-FA7BE88E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DBA2-3FBF-4074-A96C-1EA2AB1A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36A-A1F8-4868-905C-A68E7CA9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320-5714-41C2-98BB-CC878BFA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209C-8EA5-45A3-953D-002A8ED4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B44A-10E3-4687-B76A-DD426D6C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962B-142B-4E52-835E-545D33BF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D895-9A24-4239-9719-FF0C43CF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0435-9DFE-4F39-BE59-EE23E96F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1A2E9-7443-4EEA-AF84-B2742DE9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43D87-26E6-4B9E-8525-372C0F1D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44A6-DFBA-47F4-8DF8-B81B507B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79B21-A790-4BD5-8B84-0C8CBF24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C6B7B-63A4-4CF5-BC53-FB4CC84E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C2E-548A-46B1-B4DE-E8ACFE14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12BB-2D67-4E58-BA78-A06CB825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B744-51D2-4E0A-9B0F-7BE510EF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227E-0D8B-4EFE-900A-C713ACBA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D6CC-C812-414C-9C65-C4168C4C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B86D-B9CA-4B3F-BC87-C36B1B68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42EBB-95E4-4254-9FE4-DD74505C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B817-D39F-4E73-A860-C3106578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A5D37-8864-419B-9BB8-E22FB875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45F1-54F4-42D0-BA48-005CB761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5225F-D6DC-4D6D-B594-010EABB7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8CB-528A-4AC5-BC7F-C9FAFD18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2057E-7875-4ABF-9B92-4A6969E3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2F42F-3B20-45FE-8211-B62E2B65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5E0B6-459E-46C6-90DC-E280F1A7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439AD-57E2-4FE5-A1CC-20B09BB7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C5F04-0F66-4BF0-9E2D-76EA002B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B7513-45D1-4C5C-94F5-C5B9F4C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F600-67CD-46DF-8895-6A6D76E6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8CD2-AE08-4AFB-80AE-0DB6E476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EAEC-FA26-45B8-A156-3A9ADE9C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263E7-7B77-459E-B68B-DD1E065B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E00-A321-48B3-8FC1-6633BBC1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33C1-5E6B-430E-97A3-99E4F509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0E628-18BB-4E6C-B1AF-3ECCF488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B9509-98DE-4B46-A774-F480D13F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2C3CB-FB83-46CD-A560-CBEC7C71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68DE4-94A3-454C-A86A-F3636F11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BD9D-D860-4E81-990C-AD84D5E2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D1BBA-990F-4816-815F-589E452C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4F7D1-8DCC-4D93-A6DE-D2DE9A40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37C29-24B4-484C-8D10-5DA94C9C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05AC3-189E-48F8-A9F3-551D6B0B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21B-790C-4E9E-B245-641AA368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5723C-C9DD-4982-B083-888442E8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CEB26-CDDF-4913-A6C4-ED97C2B3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276DC-E659-4AED-A7AB-A0F0BB58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87D3A-1587-40F5-9DA0-3B583A61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3A647-C4F3-4875-A324-F82843C0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FE833-1F1F-442A-8B92-70EE0225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14D41-6FEA-4CA6-BF6E-3F9026CA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6F13C-1463-45E4-8FF0-D241CBF3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6D946-F350-4926-9447-8743BC3E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E1187-6F87-4EBD-B4FF-DC229F70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739-2703-404E-BFEB-01CD148F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34A09-9E43-469D-8A0D-AB11EA47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A4B94-36EF-4820-8786-2E435A0E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ABB96-BE3B-4741-95C5-7C43DA1F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A242E-5510-4BDB-9A52-61E56141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15477-AB0C-472D-B1D0-DC0FD6A3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55ED1-60AC-4FF4-BDCC-8AC19AA2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8595D-2655-47FB-9DEA-DA08D53B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CA37B-FB1C-4D1D-B2AD-591F6A20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646C4-F87D-429A-A9D7-40CAECFB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CAAF6-1B9E-4039-862C-02860EAD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3DD-AC6F-4623-B353-2F7565CB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C8328-36B8-4C3B-A5B4-663FACE4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6551C-CE7F-4461-ABD3-C43FA254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20DB5-F6D4-4063-AC4F-57DAAD51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3E39B-F88D-4352-8357-F936CC68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67AE5-DDC9-4D87-89B4-BF94E46A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F53BA-4325-497E-B274-820C3DFF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4B855-6E21-45EF-9901-FF52774F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9C547-FDF8-4C6C-808B-9BF0C5DC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02D95-E708-4248-95C6-947AA596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1B1CA-8D97-4771-9EAB-9DF1CF3C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157-6DF1-4D98-9E2D-56A03760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51969-4C42-422E-8CB9-B2DE9BF2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AA3A7-39E9-440F-A39B-21A0E69D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AEB7C-7D17-4221-9BBE-310C5455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E199B-45C9-4D6D-A702-F6925B07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9B76E-E9E2-4DAA-BA79-4E24C5C1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E210F-2A43-4C19-80B2-A6787DAE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6426B-1811-4E63-90BD-9B48F4E9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9A35D-E5A0-4D04-99DC-5F23432C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EF291-5384-4C45-A9E0-D043BBA6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81F7A-1E84-4E3D-8A28-86FBB0FF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9B72-9EBC-4FE9-84D9-5382EA231D0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5463-728E-4EA7-88F6-7156EF4ED2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B7C0-B7C3-45D4-9B7E-1525671B31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65DD-7795-4A37-9533-216ADE6621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4599-6BD1-44C1-A9EF-30F396042B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E97E-028A-44FB-8EB0-68545F7A8C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2362320" y="752400"/>
            <a:ext cx="3962160" cy="1246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"/>
          <p:cNvPicPr/>
          <p:nvPr/>
        </p:nvPicPr>
        <p:blipFill>
          <a:blip r:embed="rId3"/>
          <a:stretch/>
        </p:blipFill>
        <p:spPr>
          <a:xfrm>
            <a:off x="3809880" y="5710320"/>
            <a:ext cx="1524240" cy="61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F41F-111D-49AD-8EA4-03FDF7AFC8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0D53-E6FD-4BEA-AEAA-8779069E9F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3507-F7AD-4750-A11D-672B97542C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CDE2-5EA8-4E67-B554-6802231682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550E-D8E6-42A4-8209-CDC4F43EBA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BF7F-107E-4827-BF4F-952C23948C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8BA5-707E-4E5E-86B5-46CB4F0EA2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4772-1221-4830-8C13-B673103C2C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17360" y="4800600"/>
            <a:ext cx="7592760" cy="1295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Arial Rounded MT Bold"/>
              </a:rPr>
              <a:t>Λευκωσία, Ιούλιος 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838080" y="2438280"/>
            <a:ext cx="7593120" cy="13701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ctr" anchorCtr="1">
            <a:noAutofit/>
          </a:bodyPr>
          <a:p>
            <a:pPr indent="0" algn="ctr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Arial"/>
              </a:rPr>
              <a:t>«Από τον αμπελώνα στο τραπέζι μα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egnaposto data 3"/>
          <p:cNvSpPr/>
          <p:nvPr/>
        </p:nvSpPr>
        <p:spPr>
          <a:xfrm>
            <a:off x="45720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Λευκωσία, Ιούλιος 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6EE9-02F5-4A9C-B287-BB500BA813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ttangolo 9"/>
          <p:cNvSpPr/>
          <p:nvPr/>
        </p:nvSpPr>
        <p:spPr>
          <a:xfrm>
            <a:off x="466560" y="266688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ww.foodanddrinkeurope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Grafik 3" descr=""/>
          <p:cNvPicPr/>
          <p:nvPr/>
        </p:nvPicPr>
        <p:blipFill>
          <a:blip r:embed="rId1"/>
          <a:stretch/>
        </p:blipFill>
        <p:spPr>
          <a:xfrm>
            <a:off x="6858000" y="1903320"/>
            <a:ext cx="1601640" cy="104004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"/>
          <p:cNvSpPr/>
          <p:nvPr/>
        </p:nvSpPr>
        <p:spPr>
          <a:xfrm>
            <a:off x="2716200" y="1289880"/>
            <a:ext cx="4114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Learning Resource has been develope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prus Food and Nutrition Museu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in the Europeana Food and Drink Project, demonstrating the value and potential of food and drink-related content sourced through Europe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Calibri"/>
              </a:rPr>
              <a:t>The project is funded by the European Commission under the ICT Policy Support Programme part of the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Calibri"/>
              </a:rPr>
              <a:t>Competitiveness and Innovation Framework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735360" y="4819680"/>
            <a:ext cx="213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uropeana Food and Drink  consortium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"/>
          <p:cNvSpPr/>
          <p:nvPr/>
        </p:nvSpPr>
        <p:spPr>
          <a:xfrm>
            <a:off x="1562040" y="5582520"/>
            <a:ext cx="617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work is licensed under a Creative Commons Attribution 4.0 International Licen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Creative Commons License"/>
          <p:cNvPicPr/>
          <p:nvPr/>
        </p:nvPicPr>
        <p:blipFill>
          <a:blip r:embed="rId2"/>
          <a:stretch/>
        </p:blipFill>
        <p:spPr>
          <a:xfrm>
            <a:off x="7848720" y="55324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645" name="Grafik 2" descr=""/>
          <p:cNvPicPr/>
          <p:nvPr/>
        </p:nvPicPr>
        <p:blipFill>
          <a:blip r:embed="rId3"/>
          <a:stretch/>
        </p:blipFill>
        <p:spPr>
          <a:xfrm>
            <a:off x="880920" y="1011240"/>
            <a:ext cx="1157400" cy="1655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5" descr=""/>
          <p:cNvPicPr/>
          <p:nvPr/>
        </p:nvPicPr>
        <p:blipFill>
          <a:blip r:embed="rId4"/>
          <a:stretch/>
        </p:blipFill>
        <p:spPr>
          <a:xfrm>
            <a:off x="4240080" y="3411360"/>
            <a:ext cx="1067040" cy="12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60040" y="4723920"/>
            <a:ext cx="7413480" cy="6858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404040"/>
                </a:solidFill>
                <a:latin typeface="Arial"/>
              </a:rPr>
              <a:t>Ενότητα γ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99B1-FB32-48B3-A875-25BC0B5C66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"/>
          <p:cNvPicPr/>
          <p:nvPr/>
        </p:nvPicPr>
        <p:blipFill>
          <a:blip r:embed="rId1"/>
          <a:stretch/>
        </p:blipFill>
        <p:spPr>
          <a:xfrm>
            <a:off x="2971800" y="1238400"/>
            <a:ext cx="319248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2640" y="5105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s://www.youtube.com/watch?v=SbbSBnI-Hb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3A0D-232E-401A-BAE6-E260877B1F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Παραγωγή Κρασιού στην Κύπρο.mp4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3132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1760" y="5181480"/>
            <a:ext cx="7413480" cy="5270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s://www.youtube.com/watch?v=7CIRq5QG0bU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97DA-CF82-4723-9DC1-3F781E03E7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Sideways - Are You Chewing Gum.mp4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1102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160" y="4648320"/>
            <a:ext cx="7848360" cy="450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haelides, D. (1992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ypriot Mosaic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Nicosia: Department of Antiquitie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37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DEC7-4C3B-4E75-B382-E63E199461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1025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A130-CF19-4DA9-BAFD-56BE6624C9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2" descr=""/>
          <p:cNvPicPr/>
          <p:nvPr/>
        </p:nvPicPr>
        <p:blipFill>
          <a:blip r:embed="rId1"/>
          <a:srcRect l="82467" t="-422" r="-182" b="432"/>
          <a:stretch/>
        </p:blipFill>
        <p:spPr>
          <a:xfrm>
            <a:off x="5715000" y="914400"/>
            <a:ext cx="2057400" cy="48909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3886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762120" y="12189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Calibri"/>
              </a:rPr>
              <a:t>Συγγραφ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Νατάσα Χαραλάμπους - Μουσείο Κυπριακών Τροφίμων και Διατροφ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haralambous.natasa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yfoodmuseum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Calibri"/>
              </a:rPr>
              <a:t>Εποπτική/Συμβουλευτική Ομάδ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Στάλω Λαζάρου - Μουσείο Κυπριακών Τροφίμων και Διατροφή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Εύα Νεοφύτου - Υπουργείο Παιδείας και Πολιτισμο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Δέσπω Λοϊζου - Υπουργείο Παιδείας και Πολιτισμο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Κατερίνα Μάτσα - Εκπαιδευτικός/Θεατρολόγ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egnaposto data 4"/>
          <p:cNvSpPr/>
          <p:nvPr/>
        </p:nvSpPr>
        <p:spPr>
          <a:xfrm>
            <a:off x="45720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Λευκωσία, Ιούλιος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egnaposto numero diapositiva 6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BCD6-BBFC-4735-A751-5FB5E1CD7E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19:50:36Z</dcterms:created>
  <dc:creator>Arianna Giuliani (Museo del Cioccolato);Emmanuel Mazzucchi (DigiLab Sapienza)</dc:creator>
  <dc:description/>
  <cp:keywords>Food and Drink Europe Open Educational Resources</cp:keywords>
  <dc:language>en-US</dc:language>
  <cp:lastModifiedBy>Natasa Charalambous</cp:lastModifiedBy>
  <dcterms:modified xsi:type="dcterms:W3CDTF">2015-07-15T22:45:47Z</dcterms:modified>
  <cp:revision>49</cp:revision>
  <dc:subject>Food and Drink</dc:subject>
  <dc:title>Museo Del Cioccolato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438C5FEF74F9443A5EA2DD155643AD2</vt:lpwstr>
  </property>
  <property fmtid="{D5CDD505-2E9C-101B-9397-08002B2CF9AE}" pid="3" name="TaxCatchAll">
    <vt:lpwstr>270;#Food and drink;#1438;#Open Educational Resources;#1437;#Europe</vt:lpwstr>
  </property>
  <property fmtid="{D5CDD505-2E9C-101B-9397-08002B2CF9AE}" pid="4" name="TaxKeyword">
    <vt:lpwstr>270;#Food and drink|86b18f41-7aea-4cbd-a8f5-1f30581748ea;#1438;#Open Educational Resources|7c19c98a-eccc-4349-95a1-48f028d2aa69;#1437;#Europe|ed74af8d-fb26-4450-9f7d-b2780cc34457</vt:lpwstr>
  </property>
  <property fmtid="{D5CDD505-2E9C-101B-9397-08002B2CF9AE}" pid="5" name="TaxKeywordTaxHTField">
    <vt:lpwstr>Food and drink|86b18f41-7aea-4cbd-a8f5-1f30581748ea;Open Educational Resources|7c19c98a-eccc-4349-95a1-48f028d2aa69;Europe|ed74af8d-fb26-4450-9f7d-b2780cc34457</vt:lpwstr>
  </property>
</Properties>
</file>